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52F-80D1-47F8-95BC-DED69C5D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687-2734-4B58-A66F-43A171C4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C8C-D6F0-4CD8-B932-ACEB4385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4F7-DDCB-42B8-8206-3966BA42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B26-9AD7-4D65-BDB0-7B2929F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6BF-B18C-424E-A629-59A2CF6D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26C-A1C7-4C99-B34E-6423E1D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64A-FC46-4916-BF35-877023E2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214-EA03-467F-B05E-4EF17473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910-706D-44C8-84E5-CCB9C35A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CAF-6045-43FB-9D55-7EFBBC2C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8F0-4B64-43BB-BD29-3FC6085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F26B-21CB-4388-A40E-CE995D14C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828880" cy="33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80880"/>
            <a:ext cx="6477120" cy="8534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902800"/>
            <a:ext cx="6632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S 1415 AK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SEP 04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92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0040" y="531720"/>
            <a:ext cx="36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2720" y="5456160"/>
            <a:ext cx="52250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ARMY SOLDIER SUPPORT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SET # 14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640" y="7695000"/>
            <a:ext cx="59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Commitment and Oblig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8320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4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744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20520" y="705312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27280" y="8348760"/>
            <a:ext cx="13827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olden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416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4852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1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416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852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744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50920" y="396720"/>
            <a:ext cx="455616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TAIN COMMITMENT AND OBLIGATION RECOR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SET NUMBER 14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5360" y="1552680"/>
            <a:ext cx="6408720" cy="54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DITION:  Given a requirement to maintain Internal Commitment and Obligation Records and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ess to blank Commitment and Obligation Documents and standard offic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pplies and equip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      The student will maintain Internal Commitment and Obligation  (Fund Control)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:   In accordance with previous instructions, the STANFINS User’s Manual, DFAS-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IN Regulation 37-1, and DoDFMR Volume 1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TUATION: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You are assigned to the 54th Mechanized Infantry Division at the Division Resour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ment Office. Because of unusually high tensions between European All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oviet Block countries, the 54th Mech Infantry Division has been moved to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uropean Thea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LTC Aaron Wilson is the Fund Certifying Officer for the 54th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MSCO 202011.00, APC A111) and K. Newsom, DAC, is the Fund Certifying Officer fo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4th Medical Battalion (AMSCO 202014.00, APC A32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REMENT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Post all financial information to the appropriate commitment and obligation  (fund control)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Maintain the Uncommited Balance of Funds Avail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 Today’s date is 5 October **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8080" y="1066680"/>
            <a:ext cx="644652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JKG-B                                                                                                                       1 October **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MORANDUM FOR:   Commander, 54th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Resource Manageme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BJECT:   First Quarter  (FY**)  Funding Targ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AMSCO  202011.00,  202014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C A111,  A3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DAAC  ZAAHA,  Z16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Direct obligation  (Initia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 Quarter     $590,000.00,     26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Annual   $2,400,000.00      98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 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 Funded Reimbursement Authority (FRA) - Not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Automatic Reimbusrement Authority (ARA) - Authorized based on receipt of ord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.   POL not included at company level, charged to HHC (W53BN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 a.   202011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NN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5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1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,0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65,000.00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3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9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$2,4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202014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0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75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5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2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6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98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840" y="0"/>
          <a:ext cx="6827760" cy="9144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0"/>
                    <a:ext cx="682776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3920" y="885204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03000" y="6469200"/>
            <a:ext cx="937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MARY SCHUT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8480" y="816768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22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6800" y="8928000"/>
            <a:ext cx="627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AK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068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700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58000" y="789156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37:12Z</dcterms:created>
  <dc:creator>Joseph Pecorella</dc:creator>
  <dc:description/>
  <dc:language>en-US</dc:language>
  <cp:lastModifiedBy>Administrator</cp:lastModifiedBy>
  <cp:lastPrinted>2000-01-24T16:57:23Z</cp:lastPrinted>
  <dcterms:modified xsi:type="dcterms:W3CDTF">2004-09-16T14:33:09Z</dcterms:modified>
  <cp:revision>17</cp:revision>
  <dc:subject/>
  <dc:title>No Slide Title</dc:title>
</cp:coreProperties>
</file>